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E4E7-9CE2-45C0-B4CD-55630836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8866-F3D9-407C-B19D-06F9C0F9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6841-DB1F-4CA1-B6EA-820E46C6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BEAC-88FB-4910-BA70-7B78C4F96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BF73-1928-4233-B5BA-86D55495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5766-80C2-4142-BA28-A1F9CE65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9F8F-D97C-42DB-B1D7-8C349B73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1526-9EBA-4323-9E47-DC10E725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60BF-D837-4097-9B1A-6895C838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1148-1F32-409A-A21C-5B172896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EF6D-2063-4073-AC41-6B69994E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28BB-08E8-4F28-9791-3EE7B882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B8E2-81BA-4717-ACDC-F08A902DF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resent Constraint on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&amp;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contrast="12000"/>
          </a:blip>
          <a:srcRect l="1234" t="0" r="0" b="0"/>
          <a:stretch/>
        </p:blipFill>
        <p:spPr>
          <a:xfrm>
            <a:off x="1692360" y="1162080"/>
            <a:ext cx="5851440" cy="56959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5219640" y="3881520"/>
            <a:ext cx="2820960" cy="917640"/>
            <a:chOff x="5219640" y="3881520"/>
            <a:chExt cx="2820960" cy="917640"/>
          </a:xfrm>
        </p:grpSpPr>
        <p:sp>
          <p:nvSpPr>
            <p:cNvPr id="44" name=""/>
            <p:cNvSpPr/>
            <p:nvPr/>
          </p:nvSpPr>
          <p:spPr>
            <a:xfrm>
              <a:off x="5219640" y="4065480"/>
              <a:ext cx="5047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996520" y="3881520"/>
              <a:ext cx="195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ormal Hierarch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219640" y="4614840"/>
              <a:ext cx="504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96160" y="4430880"/>
              <a:ext cx="20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verted Hierarch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5205240" y="487692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32000" y="1374840"/>
            <a:ext cx="5753160" cy="5438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uture Constraint on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&amp;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788000" y="3881520"/>
            <a:ext cx="2820960" cy="917640"/>
            <a:chOff x="4788000" y="3881520"/>
            <a:chExt cx="2820960" cy="917640"/>
          </a:xfrm>
        </p:grpSpPr>
        <p:sp>
          <p:nvSpPr>
            <p:cNvPr id="52" name=""/>
            <p:cNvSpPr/>
            <p:nvPr/>
          </p:nvSpPr>
          <p:spPr>
            <a:xfrm>
              <a:off x="4788000" y="4065480"/>
              <a:ext cx="5047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64880" y="3881520"/>
              <a:ext cx="195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ormal Hierarch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788000" y="4614840"/>
              <a:ext cx="504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564520" y="4430880"/>
              <a:ext cx="20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verted Hierarch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4773600" y="487692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03960" y="5300640"/>
            <a:ext cx="21556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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~ 3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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~ 5%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Math1Mono"/>
                <a:ea typeface="Math1Mono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Math1Mono"/>
                <a:ea typeface="Math1Mono"/>
              </a:rPr>
              <a:t>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~ 5% </a:t>
            </a:r>
            <a:r>
              <a:rPr b="0" lang="en-US" sz="1800" spc="-1" strike="noStrike">
                <a:solidFill>
                  <a:srgbClr val="000000"/>
                </a:solidFill>
                <a:latin typeface="Math1Mono"/>
                <a:ea typeface="Math1Mono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Math1Mono"/>
                <a:ea typeface="Math1Mono"/>
              </a:rPr>
              <a:t>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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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9:55:53Z</dcterms:created>
  <dc:creator>J.E Campagne</dc:creator>
  <dc:description/>
  <dc:language>en-US</dc:language>
  <cp:lastModifiedBy>J.E Campagne</cp:lastModifiedBy>
  <dcterms:modified xsi:type="dcterms:W3CDTF">2005-07-28T13:21:47Z</dcterms:modified>
  <cp:revision>4</cp:revision>
  <dc:subject/>
  <dc:title>Present Constraint on mb, mbb &amp; S </dc:title>
</cp:coreProperties>
</file>